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6C3-E508-4DCE-B4AA-1C8884E1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B77-9F94-4CB7-AE4C-CB05F676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BF4-8570-43B3-9ADB-494BCCF6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630-869B-4BB8-BA77-FA246994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331-C3EB-47C4-9264-9B5F610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983-D971-4BF2-80A7-D92147D0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3D4-DA7D-4CFA-B8C0-3CC16F54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BB8-B4D1-4662-9421-E4E318B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51A-26A7-4ABC-A896-A349F80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B59-CC4F-4D4F-B5E9-14D4B51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B50-D208-4AD1-A89A-EAB83B7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CE2-FED6-4965-A326-3D78262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D32-5E4A-4DE9-AE3F-9C3E83465DF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latinum TTM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CM reque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is one of 10 core projec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6.07 planned (according SWM DS is for retail vers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S 07.07 possible for operators acc. SWM (as Koala is here lead, if no Koala lead then 08.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CM reque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5.07 for operato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most critical feat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I voice recogni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investigation starte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ome features identified as risk already (e.g. voice control inside navigat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GPS/A-GP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irst implementation of new HW and SW (RFR6275 not working on EVB so far, no SW implementation available today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TT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Critical line is SW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Investigation was done how to come to an earlier DS for operator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2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WM: Scenario Platinum DS in 04/2007 (= 1st operator approval in 06/2007!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1) Immediate start with Platinum specific features not possible due to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Voice Control and A-GPS solution still not clarified nor system concept defined, nor ISVs selected </a:t>
            </a: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no imediate start possible as required for early IOTs and DS in 04/2007 = high risk and potential delay of D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Resources for Voice Control and A-GPS (Munich experts) involved in Kestrel and DSP handover from AAL during June 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igh risk for DS in 04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Koala had to get a timeout of 2 months leading to DS in 06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2) Risk reduction (especially for IOT) possible if fully A-GPS enabled HW is available early (Dec 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3) Overall SW load situation very similar as with Koala due to identical operator requirements of Koala and Platinum (still a req. reduction needed due to over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4) Koala touch screen and landscape application mode already very well prepared for immediate sta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5) Biggest challenge for whole platform is huge operator requirements (many big changes) and so expected long approval cycles with operator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DS Retail in 04/2007 leads to a first operator approval in 06/2007 (Koala or Platinum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30:28Z</dcterms:modified>
  <cp:revision>141</cp:revision>
  <dc:subject/>
  <dc:title>PowerPoint 簡報</dc:title>
</cp:coreProperties>
</file>